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CFE-746B-4D21-88DA-C4FE485B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887-7FB0-4C23-B892-7F1F1CD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436-8107-43C3-BA27-3AC40FD4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39E-21B4-4311-A8CE-6ED1CC65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E8596-02DF-49FD-A3B3-89D287B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665A4-2DA8-4C52-951B-7E72B05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E73F-26D1-4FC6-855F-1823450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890B0-2F10-41ED-9AA9-70174F2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D62E4-C2D5-41E1-916B-16E8F5B3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056F-2F50-423F-AD60-C1729C23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7B3E-9A81-40C9-8305-02D593E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A41-86DA-4689-86AB-5688FB4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B0215-C7C8-419F-A8BD-AF7667D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278AE-8E9B-4D0F-831B-41E60CD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3BEF9-521F-4CF5-BC73-76E892DF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4E938-8792-4797-9C9A-5A23F279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72B5-5869-4573-8179-AFB7966E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78F-46CF-4BEA-BEAA-461D25A7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823-A362-4112-8837-B1E66E4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28A-E7F9-4912-A6CE-AC58860A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558-4392-4E75-A140-186FB44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0C4-44E1-4A32-8914-9401C04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82E-F773-4B4B-BF4F-7B4BBE86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095-F2D1-4FF7-B642-EC0624B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127-CC4E-4435-8E40-542F4C00ED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E7E-F1B8-4D81-8453-476A3B4402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66ff"/>
                </a:solidFill>
                <a:latin typeface="Arial"/>
              </a:rPr>
              <a:t>Hi I am going to tell you about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ai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Jail is a place were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oes if they have b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Kay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too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pocket kn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ba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pepper sp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handcuffs to arrest people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67640" y="5805360"/>
            <a:ext cx="1081080" cy="81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729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96000" y="19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og handler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g handlers teach the do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2592360" cy="167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59640" y="414972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1964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588000" y="476280"/>
            <a:ext cx="2160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11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n you call 111 they will ask you what do you want fire, ambulance or police. If you have a robber in your house say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1787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ispat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spatchers are the people who tell the police where to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spatchers also collect information they need to now and what tools to b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e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to wear special gear to keep them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pee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special speed dial to check how fast the car i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Bike 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19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who ride on bikes must be fit because you might need to ride a long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police find someone being really naughty the might take you to the station were they keep you in a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50:50Z</dcterms:created>
  <dc:creator>5e20</dc:creator>
  <dc:description/>
  <dc:language>en-US</dc:language>
  <cp:lastModifiedBy>5e20</cp:lastModifiedBy>
  <dcterms:modified xsi:type="dcterms:W3CDTF">2011-09-12T21:11:58Z</dcterms:modified>
  <cp:revision>6</cp:revision>
  <dc:subject/>
  <dc:title>Police</dc:title>
</cp:coreProperties>
</file>